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9DC5B-89E8-4467-825F-061EC3B076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D0946-848E-4647-B429-FD3CBEE905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746-64A4-479A-833A-3622B98D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616-934C-4C0C-B40A-9BD6E90A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CBA-58D4-4FCC-9981-EB6A9CC1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5F2-E832-4E43-BAA8-E992508D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783-16CD-4220-B866-57115524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5CE-82FB-4C4F-9296-78BA7D31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8DF-D75E-4CB7-AF79-6C9E5EC4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360-E733-49AF-871D-669EFA79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E03-BA98-4AEF-ABBF-E34E8E71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F49-19AB-48AD-878A-3EF81D41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346-C3D8-4C24-B963-995F657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1E1-A758-4BED-A74F-A528AF89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324E8-9E3F-48AC-A4E8-0244EA4F4D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4055040"/>
            <a:ext cx="5086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咱当兵的人，就是不一样。头枕着边关的明月，身披着雨雪风霜。咱当兵的人，就是不一样。为了国家的安宁，我们紧握手中枪。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……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”听着这首歌，你是否能感受到戍边将士保卫边境的拳拳爱国之心？今天我们就领略一下唐代军人的风采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286080" y="254160"/>
            <a:ext cx="2571840" cy="672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4" name="矩形 1"/>
          <p:cNvSpPr/>
          <p:nvPr/>
        </p:nvSpPr>
        <p:spPr>
          <a:xfrm>
            <a:off x="841320" y="2736720"/>
            <a:ext cx="756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两句写景，渲染了战争气氛，点出了凄凉艰苦的战争环境，表达了将士们戍边生活的孤寂与艰苦。其中的“暗”和“孤”字，说明了环境的恶劣，将士们孤立无援，为下文写将士们豪壮的精神面貌做了铺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898560" y="1747800"/>
            <a:ext cx="871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青海长云暗雪山 ，孤城遥望玉门关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685800" y="270972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两句诗描写了将士们英勇杀敌的精神面貌。“百战穿金甲”运用夸张的手法突出了戍边时间之漫长，战事之频繁，战斗之激烈。但是将士们的报国斗志丝毫不减，发出了不击败敌人，绝不归还的豪壮誓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685800" y="1863720"/>
            <a:ext cx="871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黄沙百战穿金甲，不破楼兰终不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19" name="矩形 11"/>
          <p:cNvSpPr/>
          <p:nvPr/>
        </p:nvSpPr>
        <p:spPr>
          <a:xfrm>
            <a:off x="954000" y="2440080"/>
            <a:ext cx="73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读着这首诗，感受着戍边将士们的杀敌为国的雄心壮志。和平是将士们抛头颅、洒热血换来的，我们应该珍惜今天的幸福生活，发奋学习，报效祖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1" name="任意多边形 3" descr=""/>
            <p:cNvPicPr/>
            <p:nvPr/>
          </p:nvPicPr>
          <p:blipFill>
            <a:blip r:embed="rId3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合 13338"/>
          <p:cNvGrpSpPr/>
          <p:nvPr/>
        </p:nvGrpSpPr>
        <p:grpSpPr>
          <a:xfrm>
            <a:off x="1900080" y="781200"/>
            <a:ext cx="5081760" cy="1304640"/>
            <a:chOff x="1900080" y="781200"/>
            <a:chExt cx="5081760" cy="1304640"/>
          </a:xfrm>
        </p:grpSpPr>
        <p:sp>
          <p:nvSpPr>
            <p:cNvPr id="69" name="Text Box 2"/>
            <p:cNvSpPr/>
            <p:nvPr/>
          </p:nvSpPr>
          <p:spPr>
            <a:xfrm>
              <a:off x="3420720" y="1011240"/>
              <a:ext cx="3561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从军行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3337"/>
            <p:cNvGrpSpPr/>
            <p:nvPr/>
          </p:nvGrpSpPr>
          <p:grpSpPr>
            <a:xfrm>
              <a:off x="1900080" y="781200"/>
              <a:ext cx="1442880" cy="1304640"/>
              <a:chOff x="1900080" y="781200"/>
              <a:chExt cx="1442880" cy="1304640"/>
            </a:xfrm>
          </p:grpSpPr>
          <p:sp>
            <p:nvSpPr>
              <p:cNvPr id="71" name="AutoShape 11"/>
              <p:cNvSpPr/>
              <p:nvPr/>
            </p:nvSpPr>
            <p:spPr>
              <a:xfrm>
                <a:off x="1900080" y="781200"/>
                <a:ext cx="1442880" cy="130464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文本框 13"/>
              <p:cNvSpPr/>
              <p:nvPr/>
            </p:nvSpPr>
            <p:spPr>
              <a:xfrm>
                <a:off x="2108160" y="96948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7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3" name="Picture 19" descr=""/>
          <p:cNvPicPr/>
          <p:nvPr/>
        </p:nvPicPr>
        <p:blipFill>
          <a:blip r:embed="rId7"/>
          <a:stretch/>
        </p:blipFill>
        <p:spPr>
          <a:xfrm>
            <a:off x="2468520" y="2216160"/>
            <a:ext cx="4407120" cy="3305160"/>
          </a:xfrm>
          <a:prstGeom prst="rect">
            <a:avLst/>
          </a:prstGeom>
          <a:ln w="0">
            <a:noFill/>
          </a:ln>
        </p:spPr>
      </p:pic>
      <p:grpSp>
        <p:nvGrpSpPr>
          <p:cNvPr id="74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75" name="矩形 20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矩形 22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679840" y="3079800"/>
            <a:ext cx="36954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青海长云暗雪山，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孤城遥望玉门关。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黄沙百战穿金甲，　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破楼兰终不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2952720" y="1263600"/>
            <a:ext cx="285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军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王昌龄（唐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866880" y="238140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古诗，背诵古诗。感知古诗大意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诗的意境，感悟诗人的爱国情怀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3340080" y="1784520"/>
            <a:ext cx="53722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王昌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772—84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，：（ 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694—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75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，字少伯，盛唐著名边塞诗人，后人誉为“七绝圣手”。王昌龄早年贫苦，主要依靠农耕维持生活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0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岁左右进士及第。安史乱起，被刺史闾丘晓所杀。其诗以七绝见长，尤以登第之前赴西北边塞所作边塞诗最著，有“诗家夫子王江宁”之誉。王昌龄诗绪密而思清，与高适、王之涣齐名，时谓王江宁。其诗多写边塞军旅生活，气势雄浑，格调高昂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从军行七首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出塞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闺怨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4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5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384120" y="2030400"/>
            <a:ext cx="298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900000" y="179712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们已经了解了作者和字词，为了更深入地理解古诗，老师送给大家一把金钥匙，这就是核心问题和串珠问题。让我们带着这些问题理解词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91" name="圆角矩形 3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任意多边形 11"/>
          <p:cNvSpPr/>
          <p:nvPr/>
        </p:nvSpPr>
        <p:spPr>
          <a:xfrm>
            <a:off x="1004760" y="2727360"/>
            <a:ext cx="4291200" cy="5745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12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青海：湖名，即今青海省的青海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1087560" y="4641840"/>
            <a:ext cx="7180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青海湖上浓云遮暗了白雪皑皑的祁连山，远望只有茫茫荒漠中的孤城玉门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9"/>
          <p:cNvSpPr/>
          <p:nvPr/>
        </p:nvSpPr>
        <p:spPr>
          <a:xfrm>
            <a:off x="5753160" y="2760840"/>
            <a:ext cx="2044800" cy="51588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暗：遮暗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1176480" y="2108160"/>
            <a:ext cx="68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青海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长云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暗雪山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，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孤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城遥望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玉门关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任意多边形 12"/>
          <p:cNvSpPr/>
          <p:nvPr/>
        </p:nvSpPr>
        <p:spPr>
          <a:xfrm>
            <a:off x="1004760" y="3403440"/>
            <a:ext cx="4291200" cy="5749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12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雪山：指祁连山，在甘肃、青海一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14"/>
          <p:cNvSpPr/>
          <p:nvPr/>
        </p:nvSpPr>
        <p:spPr>
          <a:xfrm>
            <a:off x="5753160" y="3462480"/>
            <a:ext cx="2044800" cy="51588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孤：单独；孤单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15"/>
          <p:cNvSpPr/>
          <p:nvPr/>
        </p:nvSpPr>
        <p:spPr>
          <a:xfrm>
            <a:off x="1004760" y="4067280"/>
            <a:ext cx="4291200" cy="5745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12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玉门关：在今甘肃省敦煌市西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任意多边形 11"/>
          <p:cNvSpPr/>
          <p:nvPr/>
        </p:nvSpPr>
        <p:spPr>
          <a:xfrm>
            <a:off x="3708360" y="2098800"/>
            <a:ext cx="4291200" cy="5745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12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金甲：铁衣、战袍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1087560" y="3765600"/>
            <a:ext cx="7142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黄沙早已磨破了身经百战的将士的坚硬铠甲，但他们仍决心不消灭楼兰的敌人誓不会归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9"/>
          <p:cNvSpPr/>
          <p:nvPr/>
        </p:nvSpPr>
        <p:spPr>
          <a:xfrm>
            <a:off x="1004760" y="2141640"/>
            <a:ext cx="2044800" cy="51588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穿：磨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176480" y="1434960"/>
            <a:ext cx="68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黄沙百战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穿金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不破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楼兰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终不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还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任意多边形 12"/>
          <p:cNvSpPr/>
          <p:nvPr/>
        </p:nvSpPr>
        <p:spPr>
          <a:xfrm>
            <a:off x="1004760" y="2870280"/>
            <a:ext cx="4392720" cy="8636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2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楼兰：汉代西域国名，这里泛指当时骚扰西北边疆的敌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14"/>
          <p:cNvSpPr/>
          <p:nvPr/>
        </p:nvSpPr>
        <p:spPr>
          <a:xfrm>
            <a:off x="5753160" y="2928960"/>
            <a:ext cx="2044800" cy="51588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还：归来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09" name="圆角矩形 9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矩形 1"/>
          <p:cNvSpPr/>
          <p:nvPr/>
        </p:nvSpPr>
        <p:spPr>
          <a:xfrm>
            <a:off x="1025640" y="2278080"/>
            <a:ext cx="74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两句描写了边疆凄凉艰苦的战斗环境，后两句写将士们英勇杀敌的精神面貌，其中“黄沙百战穿金甲”写出了战争的漫长和艰苦，“不破楼兰终不还”写出了将士们的豪壮誓言，表达了将士们誓死杀敌的爱国主义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13:25:17Z</dcterms:modified>
  <cp:revision>47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